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019800" cy="8899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DE8C-213A-4E86-B6B3-E7E3E5822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2DC0-437E-417F-BA42-7ED1D744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0DC0-9ED7-488E-B014-C3A04532D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33B1-AE4B-488E-A0FA-0A89B5268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030C-2F43-45FB-A11D-B3EB84B0C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7AB8-4516-4A57-855C-5561AC13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E0CF-E66E-4B66-91FD-AD452FCE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C389-EB71-4E30-AD2C-8BEEF9B0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2601-D900-484A-B2BC-B70B18BF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9083-D84B-4A10-BCA4-E31B9724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EF29-24D5-42D2-988A-6B9CB0DA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DA5F-E616-4623-A4C7-4B57AA24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D75A-F78E-4DA3-9BA6-8ED74C9D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CBB0-65D3-45AB-ABCE-33F0D1DF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D1DFD-3D9C-422A-8B52-7FC1FBE5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86E19-3133-440B-87B0-C1DD05B3A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5322-8F3E-4D0F-983B-BE4B8B6FD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8AB9-A2FB-4391-9652-70D6B980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06CD-D469-40B7-82DC-F699DBE5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D5FC-E5E5-4283-A393-51CCCACF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1152-03E6-4DC3-881F-30442BBC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31C2-0CA3-4E08-9417-61FD849B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7572-E5CA-45D0-9DD2-7BB37D23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AB41-9F58-4639-9B8B-F121EB18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78F5-FE86-42AE-9D5D-B2990CAF117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4FA9-1350-433E-94B4-188EDE4D8E3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669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0066"/>
                </a:solidFill>
                <a:latin typeface="Arial"/>
              </a:rPr>
              <a:t>Lesson 29</a:t>
            </a:r>
            <a:endParaRPr b="1" lang="en-US" sz="9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268000" y="3429000"/>
            <a:ext cx="4240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Dialogue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11280" y="61452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 You don’t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keep your wor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13352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) keep one's word/promise  v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守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=hold  one's w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8720" y="263052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) break one's word  /promi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8720" y="349560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) eat one's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5640" y="44370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igh one's words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斟酌词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5640" y="53020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) waste one's words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白费口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50920" y="419040"/>
            <a:ext cx="78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a wor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short; in summar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简而言之；概括地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a word, the situation is serio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总而言之，形势很严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271620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7) in other words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换句话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4000" y="3429000"/>
            <a:ext cx="77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8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ve words with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争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争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400536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9) have a word with s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某人谈一两句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某人谈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9440" y="5157720"/>
            <a:ext cx="802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word spoken is past recall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7640" y="5877000"/>
            <a:ext cx="78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一言既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驷马难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09480" y="304920"/>
            <a:ext cx="70567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3. Anyhow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I’ll see you next wee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可在句首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7280" y="1736640"/>
            <a:ext cx="87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)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无论如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管怎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= any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1) It may rain, but anyhow I shall go out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天可能要下雨，但无论如何我要出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3465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2) Anyhow I must finish this job today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无论如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今天要完成这件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476100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) Nevertheless: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尽管如此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51484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t sounds crazy, but I believe it anyhow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它听起来像疯话，然而我相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50920" y="83664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apologiz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 make excuse for or regretful acknowledgment of a fault or offense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道歉，认错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260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pologiz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for being so angry with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263700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 apologized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t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her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for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stepping on her foot.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因踩了她的脚而向她道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8360" y="3789360"/>
            <a:ext cx="770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pologize to sb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向某人道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pologize to sb. for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向某人为某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做了某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道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pologize to sb. for doing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向某人为某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做了某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道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09480" y="106668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ant to d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; intend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意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打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5640" y="3049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didn’t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mean to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 so ru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198108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1) I meant to go running this morning, but I overslep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429000"/>
            <a:ext cx="8381880" cy="29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 was meant for [to be] a doct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本来是准备把他培养成为医生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didn’t mean to hurt you; I just wanted to tell you the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2120" y="6018120"/>
            <a:ext cx="8381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cess means working h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50920" y="7650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ashamed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eling shame or guilt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羞愧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感到害臊或有罪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189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feel rathe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sha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184464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1) Are you ashamed for having li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撒了谎感到害臊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2971800"/>
            <a:ext cx="835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behaved badly yesterday and I am ashamed (of myself)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我昨天表现不好，我现在感到很惭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464832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7. There’s no ne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or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5181480"/>
            <a:ext cx="81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re is no need to do s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5867280"/>
            <a:ext cx="861048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have plenty of time. There's no need to hur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's no need for a guide on our journey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04920"/>
            <a:ext cx="83059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e angry with sb ( for doing sth)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e angry at sth / -ing / wha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981080"/>
            <a:ext cx="91440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什么也没做， 为此 他很生我的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was angry with me for not having done any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was angry at his ide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was angry at what I said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05fb"/>
                </a:solidFill>
                <a:latin typeface="Times New Roman"/>
              </a:rPr>
              <a:t>but = except, but</a:t>
            </a:r>
            <a:r>
              <a:rPr b="0" lang="zh-CN" sz="3200" spc="-1" strike="noStrike">
                <a:solidFill>
                  <a:srgbClr val="1105fb"/>
                </a:solidFill>
                <a:latin typeface="Times New Roman"/>
              </a:rPr>
              <a:t>后常用代词宾格，</a:t>
            </a:r>
            <a:r>
              <a:rPr b="0" lang="zh-CN" sz="3200" spc="-1" strike="noStrike">
                <a:solidFill>
                  <a:srgbClr val="1105fb"/>
                </a:solidFill>
                <a:latin typeface="Times New Roman"/>
              </a:rPr>
              <a:t>prep </a:t>
            </a:r>
            <a:r>
              <a:rPr b="0" lang="zh-CN" sz="3200" spc="-1" strike="noStrike">
                <a:solidFill>
                  <a:srgbClr val="1105fb"/>
                </a:solidFill>
                <a:latin typeface="Times New Roman"/>
              </a:rPr>
              <a:t>除去，除开，常与 </a:t>
            </a:r>
            <a:r>
              <a:rPr b="0" lang="zh-CN" sz="3200" spc="-1" strike="noStrike">
                <a:solidFill>
                  <a:srgbClr val="1105fb"/>
                </a:solidFill>
                <a:latin typeface="Times New Roman"/>
              </a:rPr>
              <a:t>nobody , nothing ,   no one </a:t>
            </a:r>
            <a:r>
              <a:rPr b="0" lang="zh-CN" sz="3200" spc="-1" strike="noStrike">
                <a:solidFill>
                  <a:srgbClr val="1105fb"/>
                </a:solidFill>
                <a:latin typeface="Times New Roman"/>
              </a:rPr>
              <a:t>连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No one can do it but him / him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ff3300"/>
                </a:solidFill>
                <a:latin typeface="Arial"/>
              </a:rPr>
              <a:t>3.I‘ve been looking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..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是现在完成进行时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构成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900" spc="-1" strike="noStrike">
                <a:solidFill>
                  <a:srgbClr val="0000ff"/>
                </a:solidFill>
                <a:latin typeface="Arial"/>
              </a:rPr>
              <a:t>have (has) + been + -ing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I have been learning English for more than five year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ff3300"/>
                </a:solidFill>
                <a:latin typeface="Arial"/>
              </a:rPr>
              <a:t>look forward to sth./doing sth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期待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ff"/>
                </a:solidFill>
                <a:latin typeface="Arial"/>
              </a:rPr>
              <a:t>4.change one‘s mind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mind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</a:t>
            </a:r>
            <a:r>
              <a:rPr b="0" lang="zh-CN" sz="3000" spc="-1" strike="noStrike">
                <a:solidFill>
                  <a:srgbClr val="0000ff"/>
                </a:solidFill>
                <a:latin typeface="Arial"/>
              </a:rPr>
              <a:t>单数形式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If one always change one's mind, he succeeds in nothing.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1.fix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zh-CN" sz="3500" spc="-1" strike="noStrike">
                <a:solidFill>
                  <a:srgbClr val="ff3300"/>
                </a:solidFill>
                <a:latin typeface="Arial"/>
              </a:rPr>
              <a:t>repair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Can you fix TV set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lang="zh-CN" sz="3500" spc="-1" strike="noStrike">
                <a:solidFill>
                  <a:srgbClr val="ff3300"/>
                </a:solidFill>
                <a:latin typeface="Arial"/>
              </a:rPr>
              <a:t>agree on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fix +a day, the price, the da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Let's fix a day. Would Saturday night suit you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They haven't fixed the date for the interview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You should first fix the ren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fix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的过去分词还可用来作表语或定语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Basic prices are low and fixe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The date fixed for the meeting was June 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500" spc="-1" strike="noStrike">
                <a:solidFill>
                  <a:srgbClr val="ff3300"/>
                </a:solidFill>
                <a:latin typeface="Arial"/>
              </a:rPr>
              <a:t>fix one's eyes on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使（眼睛、注意力等）盯住，专注于……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She fixed her eyes on the envelop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He fixed his attention on listening to the morning new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5.argue with sb about sth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quarrel with sb. about sth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He argued with the taxi driver about the fa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28600" y="30492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ming u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Have you ever had misunderstandings with oth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What will you do after you find out that you have misunderstood somebod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What will you say to her / hi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621240"/>
            <a:ext cx="79250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I’m sorry to be so ru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I apologize for shouting at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Please excuse me for***(do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I didn’t mean to ***(do / b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I’m afraid I was very ru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915840"/>
            <a:ext cx="9677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6200" y="123840"/>
            <a:ext cx="7850520" cy="6426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4:  the expressions about  apolog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5280" y="6206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pologiz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62064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ow to resp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05264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 am sorry about sth./ for doing sth./to have done sth./ that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280" y="3141720"/>
            <a:ext cx="39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I apologize (to you) for doing sth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920" y="429264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Excuse me for doing s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00720" y="1197000"/>
            <a:ext cx="43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imes New Roman"/>
              </a:rPr>
              <a:t>1.That’s OK/ all rig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56000" y="228276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66"/>
                </a:solidFill>
                <a:latin typeface="Times New Roman"/>
              </a:rPr>
              <a:t>2. Never mi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27640" y="3075120"/>
            <a:ext cx="432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imes New Roman"/>
              </a:rPr>
              <a:t>3. It’s not importa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56000" y="394020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imes New Roman"/>
              </a:rPr>
              <a:t>4. That’s noth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316400" y="490212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imes New Roman"/>
              </a:rPr>
              <a:t>5. Don’t worry about th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08000" y="552456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 I didn’t mean to do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-1905120"/>
            <a:ext cx="9144000" cy="967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95280" y="90792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next Fri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92360" y="90792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din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796000" y="90792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m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8360" y="148428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84360" y="1557360"/>
            <a:ext cx="21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man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075280" y="155736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hang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227664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loo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844720" y="2349360"/>
            <a:ext cx="38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onsid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445080" y="2440080"/>
            <a:ext cx="18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Tw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5280" y="306864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argu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308772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apologiz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43640" y="306864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ang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4000" y="266760"/>
            <a:ext cx="7561080" cy="6426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5:  exercises:  W.B. Ex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3933720"/>
            <a:ext cx="51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misunderstan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64000" y="400536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disappoin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4000" y="472428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shou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33800" y="4724280"/>
            <a:ext cx="179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r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48360" y="4797360"/>
            <a:ext cx="33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asham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558972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mat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987640" y="5661000"/>
            <a:ext cx="42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din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380880"/>
            <a:ext cx="8915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A notice was placed by the thin ice, war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eople to 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keep off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keep o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C. go out     D.  go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92360" y="990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3124080"/>
            <a:ext cx="8686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 John was made ______ the truck for a week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punish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to wa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B. wash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wa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D. to be wa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86200" y="30481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990720" y="3049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erci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1219320"/>
            <a:ext cx="83055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We should do what we can to stop the river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pollute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B. to be pollute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pollut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D. being poll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14400" y="16765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" y="4038480"/>
            <a:ext cx="79246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 He has ______ letters to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much                B. a great deal of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masses o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D. the number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6880" y="3962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09480" y="457200"/>
            <a:ext cx="8001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 Boys and girls are looking forward 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ifts for Children’s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to being given               B. to giving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for being given              D. to g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467480" y="563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4038480"/>
            <a:ext cx="78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. If you can’t find a doctor, a nurse will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d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 b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 fi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14400" y="4572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066680" y="105084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533520"/>
            <a:ext cx="83055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 Most of the water has been poured, a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est ______ in the bott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are lef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B. were lef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is lef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is not l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981080" y="12193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" y="3794040"/>
            <a:ext cx="8915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. Water will not turn into ice _____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emperature falls below zero degree centigr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i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B whe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C unless          D af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715000" y="379404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101800" y="6278400"/>
            <a:ext cx="101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e9ce8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066680" y="38088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3520" y="380880"/>
            <a:ext cx="8229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. There is no need ______ us to do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ow, I thi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t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B. fo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C. o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D.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67080" y="3049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2280" y="3352680"/>
            <a:ext cx="8991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. I don’t mean _____ you, but I must tell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to disappoin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B. disappoint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to be disappointe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D. being disappoi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3276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719120" y="6278400"/>
            <a:ext cx="101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e9ce8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28600" y="533520"/>
            <a:ext cx="89154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1. -----I apologize for quarrelling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-----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Thank you.                  B. You’re welco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That’s nothing.            D. Not at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1219320"/>
            <a:ext cx="10670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 Narrow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2916360" y="2565360"/>
            <a:ext cx="3154320" cy="14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GOOD-BYE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How will you answer to an apolog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990720"/>
            <a:ext cx="8077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05fb"/>
                </a:solidFill>
                <a:latin typeface="Times New Roman"/>
              </a:rPr>
              <a:t>That’s all right.  </a:t>
            </a:r>
            <a:r>
              <a:rPr b="0" lang="en-US" sz="3200" spc="-1" strike="noStrike">
                <a:solidFill>
                  <a:srgbClr val="1105f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105f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105fb"/>
                </a:solidFill>
                <a:latin typeface="Times New Roman"/>
              </a:rPr>
              <a:t>That’s no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05fb"/>
                </a:solidFill>
                <a:latin typeface="Times New Roman"/>
              </a:rPr>
              <a:t>Never mind</a:t>
            </a:r>
            <a:r>
              <a:rPr b="0" lang="en-US" sz="3200" spc="-1" strike="noStrike">
                <a:solidFill>
                  <a:srgbClr val="1105f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105f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105fb"/>
                </a:solidFill>
                <a:latin typeface="Times New Roman"/>
              </a:rPr>
              <a:t>It’not impor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320" y="4368960"/>
            <a:ext cx="9144000" cy="34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 or fal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)1Kate and Jane won’t go out together next Fri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)2 Kate is so selfish that she just consider her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)3 It is 14 days later that they meet each other again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49784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561816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62737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320" y="2819520"/>
            <a:ext cx="8762760" cy="11912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1: listen to the tape and find out the answ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2280" y="914400"/>
            <a:ext cx="883944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Listen and fill in the blan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fter they______with each other , Kate  couldn’t _______ that Friday,she was going _____ for the weekend. But Jane thought Kate didn’t keep her _____.  She changed her mind ___ ____ _______ . So they had a misunderstanding. A_________ later, Jane  __________ for being so angry with her friend, and  she felt ______  __________ , but she didn’t _____ to be so rude.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62320" y="16765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2133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n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19920" y="2133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3124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30481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t   last   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35812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rt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40384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polog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45720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ather    asha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50292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8377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105fb"/>
                </a:solidFill>
                <a:latin typeface="Arial"/>
              </a:rPr>
              <a:t>1. What were they arguing ab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  They were arguing  if they had fixed  to go out on Fri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105fb"/>
                </a:solidFill>
                <a:latin typeface="Arial"/>
              </a:rPr>
              <a:t>2. What did Jane think they would  do next Fri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  Jane thought they would go out for dinner toge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105fb"/>
                </a:solidFill>
                <a:latin typeface="Arial"/>
              </a:rPr>
              <a:t>3. What was Kate going to do next Fri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. Kate was going away for the week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105fb"/>
                </a:solidFill>
                <a:latin typeface="Arial"/>
              </a:rPr>
              <a:t>4. What did  Jane blame Kate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. In Jane’s opinion, Kate  didn’t keep her words , and didn’t consider anyone but herse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75960" y="-4572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Ask and Answer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28240" y="609480"/>
            <a:ext cx="9372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. When did the 2 girls meet ag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05fb"/>
                </a:solidFill>
                <a:latin typeface="Arial"/>
              </a:rPr>
              <a:t>5. A fortnight l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. What did Jane do this ti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05fb"/>
                </a:solidFill>
                <a:latin typeface="Arial"/>
              </a:rPr>
              <a:t>6. She apologized for being so rude to K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. What was the reason for the argument, according to Ja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05fb"/>
                </a:solidFill>
                <a:latin typeface="Arial"/>
              </a:rPr>
              <a:t>7. They might have a misunderstanding ab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05fb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1105fb"/>
                </a:solidFill>
                <a:latin typeface="Arial"/>
              </a:rPr>
              <a:t>the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828720" y="3962520"/>
            <a:ext cx="72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. And now I am telling you can’t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manage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this Frida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1.gif (8012 bytes)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20080" y="5589720"/>
            <a:ext cx="1089000" cy="11523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84360" y="476280"/>
            <a:ext cx="6696000" cy="11912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2: listen to the tape again and read after the tap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2205000"/>
            <a:ext cx="6696000" cy="1191240"/>
          </a:xfrm>
          <a:prstGeom prst="rect">
            <a:avLst/>
          </a:prstGeom>
          <a:solidFill>
            <a:srgbClr val="7e9c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3: dealing with the language poi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24000" y="685800"/>
            <a:ext cx="784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succeed in accomplishing or achieving, especially with difficulty; contrive or arrang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设法做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努力完成最终达到目的或完成任务的，尤指困难地设法或安排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4981680"/>
            <a:ext cx="72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2) We finally managed to get there in time.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最后我们及时赶到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364824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nage to get a promo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设法得到晋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95280" y="333360"/>
            <a:ext cx="777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管理；处理； 支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managed the supermarket when the owner was away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当主人不在的时候，他管理这个超级市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2637000"/>
            <a:ext cx="820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能应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1) The pilot managed to circle the balloon for some time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位飞行员设法绕气球飞了一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508464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2) He managed to avoid an accide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设法避免事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6T07:46:51Z</dcterms:created>
  <dc:creator>罗燕玲</dc:creator>
  <dc:description/>
  <dc:language>en-US</dc:language>
  <cp:lastModifiedBy>w</cp:lastModifiedBy>
  <dcterms:modified xsi:type="dcterms:W3CDTF">2004-10-06T15:31:34Z</dcterms:modified>
  <cp:revision>90</cp:revision>
  <dc:subject/>
  <dc:title>Lesson two</dc:title>
</cp:coreProperties>
</file>